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9D92-CCB2-4E94-A9F6-6FDF4603B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 has fallen to the Assyrians, and now we have Judah al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62BE-AAC0-410E-A0A5-7EEF3E1A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686D-BF7C-4886-B606-D89B0F0C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A566-7FF4-4806-8C7C-972942E8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3B7E-0427-4137-9C41-9448B144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419A-D1E1-4BBD-880B-6FBCBBDE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BC11-A4EE-4FB1-8036-96AECDEA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3F68-5FE9-4680-B81E-95266289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6536-F019-4175-88DD-A5CF2139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B33E-4F8E-4A84-B0A9-27882C97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A48D-D792-4291-9AB6-1A8FAD0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4CE2-2AFE-4FDE-9AF2-69ACDAE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0B40-5120-4A20-9621-A5530533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4791-66F7-422F-9035-14D79A22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EB8B-0055-4CB9-98C3-86BBDB5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0A33-7FD1-4FF6-BD90-D1A9D643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1741-3D7B-46D9-8978-33523BA6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7E6C-87E4-480F-9E71-C4B7070A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446F-432C-4423-B5A7-3E2176D8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EB9A-F5FB-4B20-9B9A-CD3DF0A8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90DE-4CC6-485E-B4AF-FB993951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7EDF-7274-462B-9B25-EF16994A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212A-40A1-46EE-86EE-5265F58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8250-80FA-4CF4-9D36-1CCF50E3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265A-7768-43CA-8AD3-EE0D4519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02AE-C905-49DA-B462-D7F525FD8A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774C-201B-4EFE-B510-3170C7EC92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Till There Was No Remedy</a:t>
            </a:r>
            <a:br>
              <a:rPr sz="5400"/>
            </a:br>
            <a:r>
              <a:rPr b="1" i="1" lang="en-US" sz="4800" spc="-1" strike="noStrike">
                <a:solidFill>
                  <a:srgbClr val="e5e5ff"/>
                </a:solidFill>
                <a:latin typeface="Garamond"/>
              </a:rPr>
              <a:t>Divided Kingdom –Part 2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7, Lesson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s 127-13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Kings 18-19; 2 Chron. 28:27 -32:22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a. 36-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FD7A-2EFF-4239-83CC-AB3C7C321ADD}" type="slidenum">
              <a:t>1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zekiah Appeals to God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9:8-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ain Sennacherib sent messenger to intimidate Hezekiah by boasting about his victo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 read the letter and went to the te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 prayed to Go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ged for delive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wed confidence and faith in G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4403-1A47-4DBB-85E6-16DA1596FD7A}" type="slidenum">
              <a:t>10</a:t>
            </a:fld>
          </a:p>
        </p:txBody>
      </p:sp>
    </p:spTree>
  </p:cSld>
  <p:transition spd="med"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d Answers Prayer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9:8-34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d answered Hezekiah through Isai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charged Sennacherib with offenses against God without speaking directly to hi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 caused his victories to come to pa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nacherib will not enter the city and return the way he c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7F44-7650-484E-877B-31042152A362}" type="slidenum">
              <a:t>11</a:t>
            </a:fld>
          </a:p>
        </p:txBody>
      </p:sp>
    </p:spTree>
  </p:cSld>
  <p:transition spd="med"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Outcome and Deliverance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9:35-37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ssyrian army took a pounding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lost 185,0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nacherib returned to Nineve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nacherib slain by his two 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ember Isaiah’s prophecy in 2 Kings 19: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God’s help, Hezekiah withstood the Assyrian inva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793C-BC40-44BE-A344-446BF62903EB}" type="slidenum">
              <a:t>12</a:t>
            </a:fld>
          </a:p>
        </p:txBody>
      </p:sp>
    </p:spTree>
  </p:cSld>
  <p:transition spd="med"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ss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became known as the “Samaritans”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churches need to restore the original ord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did the term “Jew” come fro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crisis many were counting on Egypt rather than God.  Is that wise or foolis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what you can to help yourself and leave the rest in God’s hands (Hezekiah’s preparation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d is with us even if the odds appear to be against 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yer is always very powerful – Eph.3: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46A2-D495-4891-B794-34BE3E25458F}" type="slidenum">
              <a:t>13</a:t>
            </a:fld>
          </a:p>
        </p:txBody>
      </p:sp>
    </p:spTree>
  </p:cSld>
  <p:transition spd="med"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attering of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odus from Egyp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udah Al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8BAE-49BE-484B-81AF-5615649E27E6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516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3657600" y="3276360"/>
            <a:ext cx="1295280" cy="5331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800" y="3276720"/>
            <a:ext cx="1828800" cy="2743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 rot="18322200">
            <a:off x="2468520" y="4579560"/>
            <a:ext cx="1400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 rot="18237000">
            <a:off x="2057400" y="1828440"/>
            <a:ext cx="3009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ssyrian Empir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756E-AF32-40F4-81B7-641A6235BB09}" type="slidenum">
              <a:t>3</a:t>
            </a:fld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zekiah Continu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igned 29 years (go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dah was alone 6 years into his re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 destroyed idolatry - 2 Kings 18:1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wed dependence on the Lord – 18:5-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oked by the Assyrians – 18:13-1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paganda of Sennacherib -18:19- 19: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yer of the King – 19:14-1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mises of the Lord in the Crisis 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:5-7, 20-3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D819-2CA2-4264-B34F-F4478A9E9AFD}" type="slidenum">
              <a:t>4</a:t>
            </a:fld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paration for the Assyrian Invasion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20:20; 2 Chron. 32:1-8; Isa. 22:11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nacherib of Assyria came against Jud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pped the water flow outside the 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ilt a tunnel for the water – 2 Kings 20:2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de and repaired fortif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pared the ar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couraged the people to not be afr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 paid a large tribute to Sennacheri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BE11-CDAF-40A6-81ED-A92F08355270}" type="slidenum">
              <a:t>5</a:t>
            </a:fld>
          </a:p>
        </p:txBody>
      </p:sp>
    </p:spTree>
  </p:cSld>
  <p:transition spd="med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685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zekiah’s tunnel --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ihon Spring steps and Siloam Channel ent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1371600"/>
            <a:ext cx="175248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rt of the preparations Hezekiah made to channel water into Jerusalem so the Assyrians could not easily starve them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tunnel is 1,777 ft.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3918-ECC4-4ECC-8CF9-8D7B8F1846E5}" type="slidenum">
              <a:t>6</a:t>
            </a:fld>
          </a:p>
        </p:txBody>
      </p:sp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asion of Sennacherib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8:17-25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nacherib sent officers and a large army to negotiate a surre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 sent representatives to meet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bshakeh insulted Hezekiah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rebel against us and trust in Egyp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don’t trust in God because you tore down all the high places and altars of wo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fered to help Hezekiah with 2,000 hor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 told us to take your land (false clai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C79E-50C7-4978-8A32-1910CB16FC46}" type="slidenum">
              <a:t>7</a:t>
            </a:fld>
          </a:p>
        </p:txBody>
      </p:sp>
    </p:spTree>
  </p:cSld>
  <p:transition spd="med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asion of Sennacherib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8:26-37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’s reps wanted them to change to the Syrian language (Arama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bshakeh then talks to the people at the wal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 no attention to what Hezekiah s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render to me and live in peace; then go to Assyria to live and not d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other nation including Israel has been successful against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Jew answered Rabshake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42C9-D2CE-4F58-851D-9AB65CAFB27D}" type="slidenum">
              <a:t>8</a:t>
            </a:fld>
          </a:p>
        </p:txBody>
      </p:sp>
    </p:spTree>
  </p:cSld>
  <p:transition spd="med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zekiah Goes to Isaiah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9:1-7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iakin, Shebna, and Joah reported to Hezeki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went to Isaiah for instruction and comf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ld him how God was ridicul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aiah sai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be afr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 will send a blast on him and he will le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will cause him to fall by the sw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bshakeh returned to Sennacherib who was at w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08857-CED6-480A-9B4B-C3CA04E2134A}" type="slidenum">
              <a:t>9</a:t>
            </a:fld>
          </a:p>
        </p:txBody>
      </p:sp>
    </p:spTree>
  </p:cSld>
  <p:transition spd="med"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7:36:31Z</dcterms:created>
  <dc:creator>Terry W. Benton</dc:creator>
  <dc:description/>
  <dc:language>en-US</dc:language>
  <cp:lastModifiedBy>Frank D Vines</cp:lastModifiedBy>
  <dcterms:modified xsi:type="dcterms:W3CDTF">2006-02-22T02:39:01Z</dcterms:modified>
  <cp:revision>11</cp:revision>
  <dc:subject/>
  <dc:title>Till There Was No Remedy Divided Kingdom –Part 2</dc:title>
</cp:coreProperties>
</file>